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82B-ED2B-464D-BE81-1740BE69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16C-8035-44D2-9ADB-8116D93C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B51-BF9E-4CF3-8AEF-9EE1C954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CA6-090B-48E6-9C95-78240314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527-8657-4B02-A6C8-19915E88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44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4600" y="160020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56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44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4600" y="3964320"/>
            <a:ext cx="272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9E0-061C-43B9-B40C-06605FD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4AC-D378-4098-AC9A-9927349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556-476B-425B-A2EA-976555C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5DB-BCD7-406A-91D1-A3CB8F51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051-614C-4C64-BA67-51BABB5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96432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ABA-5A78-48A7-968D-537C2DD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64320"/>
            <a:ext cx="8458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848-7335-46EC-B265-1EF16C9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j0382574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CA7B-BD7A-47A6-9AF3-931D50A584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D23-91D4-4B51-ABE3-CF6A69BCA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j0382574"/>
          <p:cNvPicPr/>
          <p:nvPr/>
        </p:nvPicPr>
        <p:blipFill>
          <a:blip r:embed="rId2"/>
          <a:stretch/>
        </p:blipFill>
        <p:spPr>
          <a:xfrm>
            <a:off x="1752480" y="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gq6FOt5sy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hallows by Nicholas Car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pter 4,5,and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ch Jones and Linda Dayw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4 The Deepening 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Lgq6FOt5sy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383-4856-415E-B5CB-AB09CB1830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492B-D1D2-4FE2-9EF7-E79BF8276C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2075-FEBB-4AA7-AB9F-E9228C0DFF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29FC-CF8A-4831-986B-5C6B2FD88F5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5  A Medium of the most General Na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2512-75E8-4BBA-94C4-237C96FEE3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C673-8B7A-4488-A1B9-CD775038629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3EAE-50FF-4C2F-9172-BF202CAC9B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278-2B94-409B-9191-7979F54D65E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  The Very Image of a 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061-C889-4C3F-AB4A-FD1D66F436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CEF-C1B7-4581-B762-BA3D8C5AF18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541-0FC0-413C-AB1B-8E277F2398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D510-31F2-4A81-BC75-3C37F81BC0B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44:05Z</dcterms:created>
  <dc:creator>Linda</dc:creator>
  <dc:description/>
  <dc:language>en-US</dc:language>
  <cp:lastModifiedBy>Linda</cp:lastModifiedBy>
  <dcterms:modified xsi:type="dcterms:W3CDTF">2011-02-06T18:36:40Z</dcterms:modified>
  <cp:revision>12</cp:revision>
  <dc:subject/>
  <dc:title>Slide 1</dc:title>
</cp:coreProperties>
</file>